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570379"/>
        <c:axId val="61722168"/>
      </c:barChart>
      <c:catAx>
        <c:axId val="32570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22168"/>
        <c:crosses val="autoZero"/>
        <c:auto val="1"/>
        <c:lblAlgn val="ctr"/>
        <c:lblOffset val="100"/>
        <c:noMultiLvlLbl val="0"/>
      </c:catAx>
      <c:valAx>
        <c:axId val="617221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70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46F-D4B2-4C87-9F18-7CF76332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3C60-09F8-4E09-A2C2-7DD8A9B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961-E546-4ECC-AFE8-0632EAD5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130-8BD3-4D93-9434-A4E6FD8A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D7A-12D5-4E13-B534-66AE3E03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8277-AB50-49D9-82D9-9572E6F8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C5F-7C55-4B79-86E0-3F495E94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B88-ADB2-43BB-BC20-A7B1450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286B-6BDC-4EE6-86E1-F6C6DA96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4876-228F-4ADA-8D58-87699CDE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70B-D939-48A9-8104-BC80D5C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309-77B7-402C-BB85-3D46A9DE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91737-4299-4ECA-8855-5B15D9828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