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354296"/>
        <c:axId val="98460750"/>
      </c:barChart>
      <c:catAx>
        <c:axId val="743542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60750"/>
        <c:crosses val="autoZero"/>
        <c:auto val="1"/>
        <c:lblAlgn val="ctr"/>
        <c:lblOffset val="100"/>
        <c:noMultiLvlLbl val="0"/>
      </c:catAx>
      <c:valAx>
        <c:axId val="984607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3542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6B89-53F7-43DF-96D2-32896AC55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54C8-5AF5-4D07-941C-E1E12B53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FF03-06E3-4505-B543-E5B90C3A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22F-D8CA-40F5-A8DE-1772878E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90A4-E2BC-4EE6-8632-86928E4B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EB9D-AAD2-4AEC-B0E1-D6AA7330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5250-5135-4E82-9B7B-185A1D66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EF18-DA29-4345-9E6B-BCFDD8A2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F5D-35D1-425E-BA5F-63FB0D95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A86D-5F45-4F21-8928-8C7AEE51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AED-B018-496F-BBB5-B111FD29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23B-D6BA-405B-8920-FD0B6B45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592A9-B11F-408F-9508-74DC60ACF9F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