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44564"/>
        <c:axId val="6803928"/>
      </c:barChart>
      <c:catAx>
        <c:axId val="10844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928"/>
        <c:crosses val="autoZero"/>
        <c:auto val="1"/>
        <c:lblAlgn val="ctr"/>
        <c:lblOffset val="100"/>
        <c:noMultiLvlLbl val="0"/>
      </c:catAx>
      <c:valAx>
        <c:axId val="6803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44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7E9-E71E-4017-A0D3-59CE2645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472-B399-493B-898D-1E03DC80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AE0-F0D6-46F5-A377-06313B07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5C9-FCDD-487F-BA52-AA591D47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FD4-4BF7-4180-B757-106295CE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9F8-229F-4F02-8A94-41F9A235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1D0-FAF8-471E-873C-77EFC559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C53-47B5-45B6-AB7F-8F3734DF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6D8-6DD2-46A6-B02F-5BC1A546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B24-E67E-4E93-A2ED-D938A5D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CD1-487C-4CD0-8090-E2C664B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E7B-74F5-40A4-9EB2-B9D3CAC8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5B3C9-85D1-4067-BE50-65D601FD0C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