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086705"/>
        <c:axId val="12277342"/>
      </c:barChart>
      <c:catAx>
        <c:axId val="250867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77342"/>
        <c:crosses val="autoZero"/>
        <c:auto val="1"/>
        <c:lblAlgn val="ctr"/>
        <c:lblOffset val="100"/>
        <c:noMultiLvlLbl val="0"/>
      </c:catAx>
      <c:valAx>
        <c:axId val="12277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867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137C-AAE5-402D-8B02-DB9EA12D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F631-326F-4D47-9C58-ADBAB52A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7D0-D5C3-4FE6-817A-3BC6FEAC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C480-C46B-4323-8A92-C7B2AB7A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6C9-B78B-4BA7-8F3C-5CCFA2D5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CD9A-B25B-4BF0-BA7C-30C1036A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7B9F-9BFB-4156-80F9-DB6BC54A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AC7B-0A36-4B72-A35F-FD3732D9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9D9A-5B3D-4CDD-9910-CC2966FE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018C-8DC6-4411-92B4-0191C873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D89-ED1A-49E0-AB28-2ECF0246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9E43-771E-4165-9059-F596420E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0804C-CFAD-4F98-8465-072A11F1F4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