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27007"/>
        <c:axId val="86731200"/>
      </c:barChart>
      <c:catAx>
        <c:axId val="29627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31200"/>
        <c:crosses val="autoZero"/>
        <c:auto val="1"/>
        <c:lblAlgn val="ctr"/>
        <c:lblOffset val="100"/>
        <c:noMultiLvlLbl val="0"/>
      </c:catAx>
      <c:valAx>
        <c:axId val="86731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27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194-A281-478D-9521-8DE1A1D8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765-F0FB-4ADD-B56C-6085925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F41-3CD2-4658-985E-3EA4C188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601-732C-4DDA-ACA4-07CD1E8F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BA1-698B-4405-B363-1E404BFF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D9D-B84E-44C8-802E-209F29C2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F40-72C3-44D8-A5A5-11609C90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894-C703-41C8-987A-8BEA63FE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3DD-F494-4542-90A1-BECAC30E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747-EE8D-45F1-850C-F8885DF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6AB-3CCF-4CA8-A9CE-09ED33F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B79-D850-4CB9-B557-CC86D72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D50C5-C2E9-4C23-9DAC-03DCB5B0DC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