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948577"/>
        <c:axId val="65377623"/>
      </c:barChart>
      <c:catAx>
        <c:axId val="739485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377623"/>
        <c:crosses val="autoZero"/>
        <c:auto val="1"/>
        <c:lblAlgn val="ctr"/>
        <c:lblOffset val="100"/>
        <c:noMultiLvlLbl val="0"/>
      </c:catAx>
      <c:valAx>
        <c:axId val="653776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9485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557B-AD8B-4ED5-9BB9-9B9E09305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3557-86CA-4A70-A455-1E98F7F0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80D9-C502-4F1E-A38E-042B25885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EA6E-1D67-4B3A-ACBC-C9B415887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98BC-67D8-4410-ABF7-DF75D78F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9561-6788-4BAD-9931-AEE215B4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5028-1774-441A-9E89-CAEB9423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5D5E-6582-4837-B4B6-268420C3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5221-E4B7-4152-A6B2-8AF3C4E4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5188-3DBF-4DA1-A9FD-331E9A12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B0F8-5520-4097-A5B6-C5A0FF54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589F-F808-483F-92C4-FF89DA60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0E079C-D5E2-439D-B64F-7D631FDCC7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