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64808"/>
        <c:axId val="85442349"/>
      </c:barChart>
      <c:catAx>
        <c:axId val="71864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42349"/>
        <c:crosses val="autoZero"/>
        <c:auto val="1"/>
        <c:lblAlgn val="ctr"/>
        <c:lblOffset val="100"/>
        <c:noMultiLvlLbl val="0"/>
      </c:catAx>
      <c:valAx>
        <c:axId val="85442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4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108-E70E-4FD0-9ADB-A84529C8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373-44B0-4A68-A2B2-4CF2856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FDA-EB4B-4393-B4E2-AEFAD4FD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0AE-D17B-4EB3-B81F-E4A7B090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803-6EA9-4409-9701-340B257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D4F-2712-462E-842D-B5D14D42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B04-8735-42AC-B624-F1801A2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EDF-A97D-4388-B119-6BF263F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638-B3D6-4981-909C-CC11F742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9A0-626C-47A7-A517-5C1B557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F97-B593-41D5-96CE-2E1216E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733-5247-49FE-BE2C-EB0BC95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3EE21-0324-47C2-8DE2-7927C4F45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