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71489"/>
        <c:axId val="41613712"/>
      </c:barChart>
      <c:catAx>
        <c:axId val="29971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13712"/>
        <c:crosses val="autoZero"/>
        <c:auto val="1"/>
        <c:lblAlgn val="ctr"/>
        <c:lblOffset val="100"/>
        <c:noMultiLvlLbl val="0"/>
      </c:catAx>
      <c:valAx>
        <c:axId val="41613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71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06A-823C-4D66-BD89-4915721B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CC7-DB0B-4079-99A5-EE1BB9A9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F86-A57A-430B-A016-DA55124E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FCD-5323-4DEA-B922-48609A6C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1FC-5205-42EC-8EFF-33594C5E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634-B01A-4722-B679-4E8346EE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C2B-E89D-43A6-99DE-2F1B31E7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2C0-DC7D-40A4-9A3E-4FFCEF21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A3B-D25C-4B1D-8A21-CC6600D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EC7-D821-4157-B4D5-2A3BA60E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BF2-3236-4DE9-A2A9-2B392BF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CC5-AA7B-4D7B-85A6-59504526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2E414-245C-4E97-B4B2-F98CBC2210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