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589663"/>
        <c:axId val="3283090"/>
      </c:barChart>
      <c:catAx>
        <c:axId val="565896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3090"/>
        <c:crosses val="autoZero"/>
        <c:auto val="1"/>
        <c:lblAlgn val="ctr"/>
        <c:lblOffset val="100"/>
        <c:noMultiLvlLbl val="0"/>
      </c:catAx>
      <c:valAx>
        <c:axId val="3283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896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AFE-98B1-4936-8AD2-D16374C5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0065-41B2-431C-9896-2CC41AD2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0BEB-47CE-4FD3-9DB2-A2F62009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422C-249C-4AA2-8722-3A51E9A5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5247-750E-4C16-ABEA-DD4EDBC6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3C4-83A6-4A87-9A42-5A063657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392-8FD5-4DF9-A198-83AB4A28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EF08-143A-4F86-8886-0A5695A4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298-CEA5-41D9-9DC6-DB46E299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531-38ED-4854-8E8C-958E5139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A9A-88E0-49F3-B778-E9E0EA8D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B441-E8AF-4F15-9891-1072141D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9FFB1-F771-40A6-8C8E-7F227A5CF3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