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2339"/>
        <c:axId val="63951940"/>
      </c:barChart>
      <c:catAx>
        <c:axId val="4982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51940"/>
        <c:crosses val="autoZero"/>
        <c:auto val="1"/>
        <c:lblAlgn val="ctr"/>
        <c:lblOffset val="100"/>
        <c:noMultiLvlLbl val="0"/>
      </c:catAx>
      <c:valAx>
        <c:axId val="639519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2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573-61EE-4655-8B8D-E42649F9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3D7-83CF-4EAA-9B78-ECC12454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EF8-63A3-4E7A-B68B-9C404EDC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41D8-C6CA-44C2-B8CD-3E2AB28A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B51-7C48-49AC-8FD8-DD1EBD0B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426-25FC-441D-AC87-DC0062F8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3CBC-588E-4CDF-9FE8-51D3D887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A08-0E87-41EB-B888-F95562A4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87E-1128-4002-9D7C-1647E921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3914-A5C3-4E6A-8049-829B6977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5DD-48BD-4B61-98EA-F534A571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619-3D01-4D5C-8A58-897C9596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6E7FD-EEA8-4620-8893-D15DF2E6EB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