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31364"/>
        <c:axId val="41155440"/>
      </c:barChart>
      <c:catAx>
        <c:axId val="59131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55440"/>
        <c:crosses val="autoZero"/>
        <c:auto val="1"/>
        <c:lblAlgn val="ctr"/>
        <c:lblOffset val="100"/>
        <c:noMultiLvlLbl val="0"/>
      </c:catAx>
      <c:valAx>
        <c:axId val="41155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31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393-D27A-4CA2-B91F-19DE7B86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CEA-7F20-4797-907F-5F4ABCAA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486-FD93-4553-BABE-8444AB60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F2D-46B8-4CDC-BBC2-A0734E5B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55B-D738-4686-B067-75BE1E32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ACB-4BEF-425C-8F40-2F929B24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E93-FC1B-439C-99E1-391EBB9F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235-3A78-4F2B-A6CC-65496347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3A3-1AF0-4D19-A864-2E7DC969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49E-0179-4271-9035-74BAC2D9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CDC-9AAB-480D-9127-FC066E31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0BE-7C1D-459F-978A-7D23AC5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28CBF-225B-4C56-A320-4CD4184FA9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