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32753"/>
        <c:axId val="68970411"/>
      </c:barChart>
      <c:catAx>
        <c:axId val="59632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70411"/>
        <c:crosses val="autoZero"/>
        <c:auto val="1"/>
        <c:lblAlgn val="ctr"/>
        <c:lblOffset val="100"/>
        <c:noMultiLvlLbl val="0"/>
      </c:catAx>
      <c:valAx>
        <c:axId val="68970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32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501-D022-446F-98CC-C4CA16A6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424-12BD-490E-BB77-20ADB9AB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E9B-F3C3-486E-B21F-A1CB9D2E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D38-B8BA-4F6D-AB29-64449792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B18-975A-4D8E-A91C-A26F4817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FBC-824C-4DED-9EF1-CFDDDC0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D36-B607-4322-B82F-746B639F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860-402E-42AF-9297-7149E6A4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E6F-7C48-42CB-A872-B5371D9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AF8-CA43-4D1B-9C02-A44FD3E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C60-3972-4C64-B344-CC50A4C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E42-58A2-43C3-9273-13700CB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9DF52-0092-4A5C-B3BB-C4E85B4BA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