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84261"/>
        <c:axId val="81195642"/>
      </c:barChart>
      <c:catAx>
        <c:axId val="86684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95642"/>
        <c:crosses val="autoZero"/>
        <c:auto val="1"/>
        <c:lblAlgn val="ctr"/>
        <c:lblOffset val="100"/>
        <c:noMultiLvlLbl val="0"/>
      </c:catAx>
      <c:valAx>
        <c:axId val="81195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84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B08-EFBD-45AC-B9EA-A31B8388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CF2-6AF3-4069-A7AB-6F08822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107-0B46-4471-8BF5-B264F70D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5A6-8B01-4D3E-A2BD-529817A2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E32-D396-4221-B251-EF1B056B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6D0-7FA1-4E5F-992E-3DFBC72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B62-9009-45A4-B3E8-4B5CC106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88C-07F9-47BE-B712-CB23BF5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A00-9F23-4204-BA73-06CD3D1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79D-F7A4-40AB-9AC2-E23D1883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AE2-6384-406A-BDD6-A664A0B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1DC-4F55-4236-B2CD-818269F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446DA-EC3A-407A-9CAD-4F3ED3280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