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74608"/>
        <c:axId val="55123287"/>
      </c:barChart>
      <c:catAx>
        <c:axId val="95974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23287"/>
        <c:crosses val="autoZero"/>
        <c:auto val="1"/>
        <c:lblAlgn val="ctr"/>
        <c:lblOffset val="100"/>
        <c:noMultiLvlLbl val="0"/>
      </c:catAx>
      <c:valAx>
        <c:axId val="55123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74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5E5-D272-45E2-9012-5DC8330E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4A3-C28A-430B-B0F1-CC59CC1E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85E-BA02-4F64-B680-2BEF1CB9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C5B-FBB7-4D8B-AF27-350BC28D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26B-3007-4826-9908-8BBB193B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B54-06BE-460E-B6A3-D4FA8389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4FC-F1D0-4BAE-801F-9B1DA620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986-8CDD-4F09-A33E-B47BB24F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AB2-3CAE-44CA-B8C6-FAAB3BC4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E32-B8C2-4913-82DB-7E4F5029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985-7101-411E-966F-0C1261D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E61-4BAE-476F-9BDC-03B345E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6D420-26E7-4BC5-8ADA-BA06E28C76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