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22201"/>
        <c:axId val="27809009"/>
      </c:barChart>
      <c:catAx>
        <c:axId val="66022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09009"/>
        <c:crosses val="autoZero"/>
        <c:auto val="1"/>
        <c:lblAlgn val="ctr"/>
        <c:lblOffset val="100"/>
        <c:noMultiLvlLbl val="0"/>
      </c:catAx>
      <c:valAx>
        <c:axId val="278090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22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4F9-051C-4BD5-A7D2-9BC09AE2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243-4B02-46B1-AFA4-B6DABBCE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64C-EFC3-443D-94DB-DD2EA04F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D11-B6C8-443F-AF9E-92A6765A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A26-D2F0-4055-A1D6-044E095C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AA6-20E0-469C-8659-4F9AB19B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21ED-9D64-43E9-AF41-704C31DD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526A-CDEA-4636-A166-637EB974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8BC-3332-4EF3-9C1F-641EAF65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1D58-1403-42B3-A095-B35E3BA4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ADB-3886-4839-92CB-AF62FCD3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88F2-32D1-45C3-B1F6-EBF8CECF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8C469-F95C-4C7B-9127-F82E628566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