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1614"/>
        <c:axId val="15899157"/>
      </c:barChart>
      <c:catAx>
        <c:axId val="19941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99157"/>
        <c:crosses val="autoZero"/>
        <c:auto val="1"/>
        <c:lblAlgn val="ctr"/>
        <c:lblOffset val="100"/>
        <c:noMultiLvlLbl val="0"/>
      </c:catAx>
      <c:valAx>
        <c:axId val="15899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1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909-1176-470D-9EE7-628E8F6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98A-5B1C-42C0-81BD-CFA0111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83C-56C4-4ED4-8CE4-F3A3C5E9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4F3-14F6-414B-A6CD-EBBE0BE3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669-4C9B-4E3B-969A-250F733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9D8-F3BF-49E2-95B9-01A29AD9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4C0-D7A9-41CA-B6C4-CE371585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377-749E-4438-B02F-C45D62B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6DA-2800-4573-ABA2-B841177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708-B327-4A82-9920-CA122A4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B45-1424-436C-8994-BC52A16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28E-F8CD-440E-A0B8-82E8216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BF772-86B1-409E-857B-917302091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